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40E-1830-4697-9A0E-945B7C44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551-8C24-4C94-AD3A-D18CC024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C88-D986-4FF7-A71E-4FBC8169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078-5AEA-4C9A-A6F6-803D23AB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1084-5781-4674-BC24-83A71B07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3C5C-3B32-4BD5-AF36-97DCA35F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AAC0-5F0B-4B42-9B84-BB7D3915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A49F-F4F5-4A7C-AAD0-7E5B979D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A9E1-A76F-4FDD-BE3A-84DD50F8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0834-B1EB-43B3-91A7-756D7D8B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35BC-80B4-4706-A484-2B9C626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E13-C4F9-44F5-8A8B-058230B0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5653-75FD-4092-BA07-A5C3870A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1264-E7F6-406E-A4E3-A3E7D8B0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FA0A-513A-4900-A40B-FB6219CE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3503-8879-465F-9DE8-70F5E23B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761A-0191-4D87-9A88-D3E74D2E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CDA8-7D48-457B-A966-B3BF1407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FD2DD-3BC4-40D9-8FF2-9B01EFBA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EC3BE-19B6-407B-8134-7B869D2D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F63E-D1EA-4735-8670-E6BA7DCE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7FBBA-2989-4A6C-BA79-51766942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46F-8247-47CB-8D15-4CDBC792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49F1-86D6-4A5F-8C6E-4B9BC4EA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27243-2B5B-4817-8E2A-FFB366FD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47D3-C0F0-492C-BAFE-8A5F177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B0A7-A7B2-41BE-89EF-A26EF702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98DD-7F6D-490B-9D9E-E386C967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617D2-7D2B-471B-A0EB-6FAC6A3B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0AE3-EEE6-4965-85C5-BEB38458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3F356-0A29-433C-B386-6B570282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04E50-21D7-4EBB-8B1C-67821045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69E00-214F-434D-BF13-5D5D58E4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61E-7E11-47C9-9FAF-E483A607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03E51-77FD-4E07-B2F4-D7BB07E1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55F4C-4D61-4D80-AC1F-E9DB0B5B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2AFBA-EBF8-465D-BA3B-DBF86083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2ADC-44CF-4CF5-84A5-38F1B402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3C418-8198-4DA0-853B-D6D90EDC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4EFC2-54CE-41A9-939C-53A5DC67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337F-303E-460A-AF46-4664DFA9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18E20-027A-48FC-A08C-595AAE1A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AE6D-E0E1-436A-8D18-E3AB9DFB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9956-601D-4382-BF0A-C8831537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76D-6B1B-4B9E-A383-13A56B0F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BB302-B153-43AB-A3A9-2B99DC1E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A2BC2-CA8B-4705-A33B-0F7F9200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2BFB5-FEAE-455B-84DD-001C1F5F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2CD56-4A25-4BC4-8E1D-19D79463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85AF-C33D-4E1F-A423-D868E548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B772E-A463-4923-ADC7-3386BFA4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07865-C7A8-4095-A50A-7FF281A8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EC98A-EFDB-4DBF-8E94-9C1AAEC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81DB8-308E-4DD0-A95D-08688973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94355-0948-45D0-9E8B-43A849E8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C5E-DB02-4D5E-B969-C74E597F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0B642-B0D9-4C12-ADC5-6740D5AD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579-CA76-4C0D-B2B6-BC5CE381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7DE-EB04-478A-AF1E-888C3EE9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4FC-7A43-4877-9D71-E5CEB22B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2234-BD01-481F-803B-DD57125EBCA9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2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808F-41EC-436F-A828-863C692E74C3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2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E1FE-1ABB-456E-A4DB-E08493B9E027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2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101E-EC18-402A-80C4-8A0EAD1641F3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2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6513-F79B-4C66-A4EB-73E93746721F}" type="slidenum">
              <a:rPr b="1" lang="el-G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irtical.eu/" TargetMode="External"/><Relationship Id="rId2" Type="http://schemas.openxmlformats.org/officeDocument/2006/relationships/hyperlink" Target="http://www.trescca.e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urse Title &amp; Identit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85840" y="1428840"/>
            <a:ext cx="8572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itle: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Embedded Syste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bjectives: Extensive training on applied industrial-strength R&amp;D related to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693360" indent="-1731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proposing, evaluating and integrating innovative system-level design methodology concepts and tools in commercial products,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693360" indent="-1731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following related standardization &amp; IPR efforts,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693360" indent="-1731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Developing/validating hw/sw IP (sometimes open source), and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693360" indent="-1731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implementing FPGA prototype platforms for proof-of-concept rapid prototyping or acceleration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cus: Computer Engineer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taf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34160" indent="-1731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Miltos Grammatikakis (System-Level Design and SystemC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34160" indent="-1731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George Kornaros (Architecture and H/W Design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34160" indent="-17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{mdgramma, kornaros}@cs.hmu.g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34160" indent="-1731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34160" indent="-1731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3 - Θέση ημερομηνίας"/>
          <p:cNvSpPr/>
          <p:nvPr/>
        </p:nvSpPr>
        <p:spPr>
          <a:xfrm>
            <a:off x="457200" y="442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/1/2022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4 - Θέση αριθμού διαφάνειας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F480-71F5-44CD-B76F-8BE78B343F7B}" type="slidenum"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5 - Θέση υποσέλιδου"/>
          <p:cNvSpPr/>
          <p:nvPr/>
        </p:nvSpPr>
        <p:spPr>
          <a:xfrm>
            <a:off x="3429000" y="19080"/>
            <a:ext cx="411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bedded Systems Design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ass Modu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73280"/>
            <a:ext cx="4038480" cy="3124080"/>
          </a:xfrm>
          <a:prstGeom prst="rect">
            <a:avLst/>
          </a:prstGeom>
          <a:solidFill>
            <a:srgbClr val="eefc3a"/>
          </a:solidFill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ystem-Level Desig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ystem-Level Methodolog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ystemC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pecial Topic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Mapping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Dynamic Power Estimation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IP Reus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Co-design and RTO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00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Fault Tolerance &amp; Reliabilit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1673280"/>
            <a:ext cx="4387680" cy="3124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EDA Principles &amp; Desig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Principles, Methodologi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FPGA Design Tools: AMD, Sieme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P/IC Desig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High-Level Synthesi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mbedded Softwa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7" name="3 - Θέση ημερομηνίας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/1/2022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8" name="5 - Θέση υποσέλιδου"/>
          <p:cNvSpPr/>
          <p:nvPr/>
        </p:nvSpPr>
        <p:spPr>
          <a:xfrm>
            <a:off x="3429000" y="19080"/>
            <a:ext cx="411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bedded Systems Design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9" name="4 - Θέση αριθμού διαφάνειας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1AEE-E185-4804-99DF-8EE807077E83}" type="slidenum"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971640" y="4946760"/>
            <a:ext cx="7632720" cy="1795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  <a:ea typeface="Arial"/>
              </a:rPr>
              <a:t>Embedded/Multicore Platforms &amp; Applica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  <a:ea typeface="Arial"/>
              </a:rPr>
              <a:t>Cyber-Physical Systems (Automotive, Healthcare, Agriculture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Arial"/>
              </a:rPr>
              <a:t>Security vs Safet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Arial"/>
              </a:rPr>
              <a:t>Performance, Real-Tim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  <a:ea typeface="Arial"/>
              </a:rPr>
              <a:t>Energy Optimization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eaching Approach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ree hours lecture/discussion per wee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aboratory: technical support of projec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Grading (work involves any of the modules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gramming Project (up to 100%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Survey (up to 80%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ojects require students to act as researchers, architects, hardware designers, system and application service developers or CAD enginee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3" name="3 - Θέση ημερομηνίας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/1/2022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4 - Θέση αριθμού διαφάνειας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62E3-395D-4B78-8B66-DD0240CA9E1B}" type="slidenum"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5 - Θέση υποσέλιδου"/>
          <p:cNvSpPr/>
          <p:nvPr/>
        </p:nvSpPr>
        <p:spPr>
          <a:xfrm>
            <a:off x="3429000" y="19080"/>
            <a:ext cx="411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bedded Systems Design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eaching Approach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ree hours lectur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aboratory: technical support of group projec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ssignmen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“term” project involving programming and design in one of the two class modules (50%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comprehensive survey in the complementary class module (30%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tudent participation in class lectures, reading assignments and group seminars (20%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nus: outstanding work in a term projec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3 - Θέση ημερομηνίας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/1/2022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9" name="4 - Θέση αριθμού διαφάνειας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1DBF-B73D-4604-A019-8EC81E50FD7A}" type="slidenum"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5 - Θέση υποσέλιδου"/>
          <p:cNvSpPr/>
          <p:nvPr/>
        </p:nvSpPr>
        <p:spPr>
          <a:xfrm>
            <a:off x="3429000" y="19080"/>
            <a:ext cx="411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bedded Systems Design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Final Seminar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ach student delive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292934"/>
                </a:solidFill>
                <a:latin typeface="Arial"/>
              </a:rPr>
              <a:t>comprehensive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92934"/>
                </a:solidFill>
                <a:latin typeface="Arial"/>
              </a:rPr>
              <a:t>survey report on one module (30%) or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292934"/>
                </a:solidFill>
                <a:latin typeface="Arial"/>
              </a:rPr>
              <a:t>term project with presentation and hands-on demonstration on the complimentary module (50%)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ojects require studs to act as researchers, architects, hardware designers, system and application service developers or CAD engineer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3" name="3 - Θέση ημερομηνίας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/1/2022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4 - Θέση αριθμού διαφάνειας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1CFC-E0DA-42B5-9011-4206F97AFF0C}" type="slidenum"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5 - Θέση υποσέλιδου"/>
          <p:cNvSpPr/>
          <p:nvPr/>
        </p:nvSpPr>
        <p:spPr>
          <a:xfrm>
            <a:off x="3429000" y="19080"/>
            <a:ext cx="411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bedded Systems Design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tudent Profi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esired prerequisites (or interest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omputer architectu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perating systems, embedded securit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mbedded systems, real-time systems, parallel/distributed system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ystems and network programm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just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rogramming experie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oftware engineering (C/C++ and  Linux, Python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omputer engineering (VHDL, Verilog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Expected weekly workloa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verage ~10 hours/week, incl. class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epends on project choice (programming or survey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kewed towards mid &amp; end of semester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8" name="3 - Θέση ημερομηνίας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/1/2022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4 - Θέση αριθμού διαφάνειας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F709-9BAC-4799-A12C-9A582020438B}" type="slidenum"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5 - Θέση υποσέλιδου"/>
          <p:cNvSpPr/>
          <p:nvPr/>
        </p:nvSpPr>
        <p:spPr>
          <a:xfrm>
            <a:off x="3429000" y="19080"/>
            <a:ext cx="411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bedded Systems Design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class instructors jointly lead five ongoing cutting-edgeindustrial-oriented R&amp;D project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U FP7 vIrtical -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virtical.eu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(2011-2014) develops novel hw extensions (IOMMU block), exploiting them at hypervisor &amp; application layer to improve full SoC virtualization efficiency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U FP7 TRESCCA -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trescca.eu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 (2012-2015) develops novel hardware security modules at transport layer, exploiting them at hypervisor  layer to ensure strong logical and physical security on the edge devices of a global trustworthy cloud platform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just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wo new FP7 projects (SAVE, DREAMS) on real-time and self-adaptive system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ational R&amp;D projec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rchimedes </a:t>
            </a:r>
            <a:r>
              <a:rPr b="0" lang="el-GR" sz="2000" spc="-1" strike="noStrike">
                <a:solidFill>
                  <a:srgbClr val="292934"/>
                </a:solidFill>
                <a:latin typeface="Arial"/>
              </a:rPr>
              <a:t>ΙΙΙ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ASHSHMEM (2012-2015) focuses on application-specific shared memory hierarchies at system- &amp; RT-level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R&amp;D Project Opportuniti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3" name="3 - Θέση ημερομηνίας"/>
          <p:cNvSpPr/>
          <p:nvPr/>
        </p:nvSpPr>
        <p:spPr>
          <a:xfrm>
            <a:off x="457200" y="19080"/>
            <a:ext cx="2895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/1/2022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4 - Θέση αριθμού διαφάνειας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0FDE-94D1-4463-9A40-E9496070BCE6}" type="slidenum"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5 - Θέση υποσέλιδου"/>
          <p:cNvSpPr/>
          <p:nvPr/>
        </p:nvSpPr>
        <p:spPr>
          <a:xfrm>
            <a:off x="3429000" y="19080"/>
            <a:ext cx="4114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bedded Systems Design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4:33:27Z</dcterms:created>
  <dc:creator>Dimosthenis</dc:creator>
  <dc:description/>
  <dc:language>en-US</dc:language>
  <cp:lastModifiedBy>Miltos Grammatikakis</cp:lastModifiedBy>
  <dcterms:modified xsi:type="dcterms:W3CDTF">2026-02-17T16:17:19Z</dcterms:modified>
  <cp:revision>51</cp:revision>
  <dc:subject/>
  <dc:title>‘Informatics &amp; multimedia’</dc:title>
</cp:coreProperties>
</file>